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EBD-4E2C-4CFA-BC53-069C628E24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98E-6FBE-410C-960F-CC4FCD5C06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363-5A58-4386-9FEE-AA9E6381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342-DC23-41C6-BE48-506F01EE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888-FD1A-4A30-919C-D93DFC93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D07-E2F5-4F9B-969B-8344AA55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BBE-0350-4B90-A06E-102CE717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EAC-3BEA-4C2D-A44A-EFECE7A5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753-28C9-48D2-9D3A-C7E6D88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D04-1A7C-4672-9955-58E91A0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27-B9F4-447D-AAED-9911492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7AE-48F0-47B3-9A3D-248F94E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BF0-1136-40E0-AA1C-53AEEE9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5C3-96FF-4F9E-BFE1-F0FB907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C44-CEAC-48A5-8670-9466076316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Were They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enise Lever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v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clin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v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a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 with deep 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habit of indulging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creamy-white substance taken from elephant or walrus tusks used to make ornaments and jewe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green stone used for ornaments and jewell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llumi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ad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e any difference betw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t, illumin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rt for ‘paddy fields’ – flooded  farmland where rice is cultiv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try that does not rhyme or have a regular structure or rhythm; also known by the French term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vers li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ing close together for contrasting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od created by a manner of expression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48428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32000" y="155736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etition of the same consonant sound at the beginning of words in close proximity to each other for emphasis or other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48:17Z</dcterms:modified>
  <cp:revision>35</cp:revision>
  <dc:subject/>
  <dc:title>La Belle Dame Sans Merci</dc:title>
</cp:coreProperties>
</file>